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A1C-577B-4656-AFDF-ECF50BC1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8E6-3E15-4B4F-812C-46DEBAA9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D2C-5DB6-41BD-89D7-EB53FE4D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1CCB-4D89-4531-927E-E0BAB21B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AB61-140D-4098-810B-7BF4A549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D698-F008-4549-AD68-ECFB04D0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F03D-031B-4D98-9654-EEE079E7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C53F-C166-4F73-9585-53BAF788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98AB-F565-4171-9B33-0B8FCC9D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203F-6FD7-4CC7-9BCA-F5C39785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972A-3159-4110-B62A-E66C42B2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CEA-1C20-43AE-B59E-B6CF20B3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C051-1265-4BB1-845D-6D59003E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D468-38EA-41BA-BE78-7C526F8E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A306-5111-4A04-8ECE-31318403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9CC9-C863-4BDA-AFD7-62F1B456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F673-6CA2-480D-AF17-204D6606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337-FF2A-4B9B-9AFD-490789EB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4D7-4B0F-4E36-8D4B-A83632FD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C0F-FF76-4A86-A853-B669EABF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F93-8FCC-4027-9FF2-4215ACFF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D63-D23D-46C2-8A34-22087EAC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394-4B14-47A8-A63C-CB64539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C88-455C-481C-A09D-3AFC38A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0BC9-4802-476B-92CC-6B99E3E0202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2F4B-81D3-4351-9353-04CCA99FF1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Arial"/>
              </a:rPr>
              <a:t>Comparatives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267080" y="29275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Page 53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Realidades 2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jor, peor, may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have plural forms ending in -es. However, they don’t have a different feminine form: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5638680"/>
            <a:ext cx="266724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Las hermana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de Pedro son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nore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que las de Juan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j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better) is also the comparative form of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bien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well),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peor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(worse) also the comparative form of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al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badly)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When used in this sense,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j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pe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have only one form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5105520"/>
            <a:ext cx="4495680" cy="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Graciela y Fabián son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jores 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Susana y Gustavo en teni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Graciela y Fabián juegan tenis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jor 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Susana y Gustavo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You have learned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 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in certain expression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4952880"/>
            <a:ext cx="4343400" cy="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e gusta el tenis pero me gusta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el fútbol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¿Te gustan las manzanas? Si,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o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We also use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+ adjective +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‘than’) to make comparison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+ adjective +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qu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Los discos compactos de Los Toros son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ás populares 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los discos compactos de Los Lobo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+ adjective +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Jorge es menos serio que María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adjectives agree with the nouns they refer to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adjectives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bueno, malo, viejo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joven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have irregular comparative forms.  We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do not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use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with them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bueno, 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alo, 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viejo, 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jove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2819520"/>
            <a:ext cx="14479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92520" y="23623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ejor (que)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733920"/>
            <a:ext cx="14479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572000"/>
            <a:ext cx="14475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5486400"/>
            <a:ext cx="14479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93240" y="3276720"/>
            <a:ext cx="29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eor (que)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64280" y="4114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ayor (que)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41320" y="5029200"/>
            <a:ext cx="34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enor (que)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0:45Z</dcterms:created>
  <dc:creator>Tom Shirley</dc:creator>
  <dc:description/>
  <dc:language>en-US</dc:language>
  <cp:lastModifiedBy>Local User</cp:lastModifiedBy>
  <cp:lastPrinted>2009-04-22T19:24:48Z</cp:lastPrinted>
  <dcterms:modified xsi:type="dcterms:W3CDTF">2007-09-18T14:25:00Z</dcterms:modified>
  <cp:revision>11</cp:revision>
  <dc:subject/>
  <dc:title>PowerPoint Presentation</dc:title>
</cp:coreProperties>
</file>